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727A-9B00-419E-A273-CA43177D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B734-5939-4F4C-BA15-5FBC431D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925-A321-42C7-8404-9E828BE2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0CC-0FCC-4BA3-9E12-851E2266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3B4-BA42-449E-84FC-0B021687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6B3-DC9D-49CD-86CE-959EB765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8D9-E880-4B5C-A197-287568B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51D-15EE-43C3-AB57-E3C4473A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7EF-F3F2-4B50-B54F-FC8E20BC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58A-AB08-4C2A-A9B7-6C04863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295-0C71-44F4-A66B-04B5A84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710-A5FB-4FDA-88BE-D6A859E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8BA-7683-4A71-A11B-C41B5472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8A6-5B8B-4958-B57B-C2E5FD7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2A8-BB68-4A4D-B399-D4098E54E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 Adi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sotras son bi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y t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ómo estas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no energ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10Z</dcterms:modified>
  <cp:revision>103</cp:revision>
  <dc:subject/>
  <dc:title>Profile</dc:title>
</cp:coreProperties>
</file>